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9626-5796-4DF7-A545-E94BA22DE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16B3-E3F7-4698-8F4E-79319B0CE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BCC4-8045-4EB7-A487-6969ED792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571A-8238-474A-A48B-5AC8D5146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9AB4-41B2-469E-8912-AE57B373F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12E9-9A7B-404C-8C0E-B9C179EC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9B6A-F5F0-4C13-8136-C233649DD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30FF-CAEB-4090-B4E1-674C3FD0E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2417-C6B9-4F54-A835-6D16ED07B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02FA-25D7-46B0-BA4A-A626E682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DC4F-A484-448A-A886-D9468EE6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D281-F2B9-46B2-967F-34E4B4D2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4C888-FF8D-4F86-AC11-6EDAE21CC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5440" y="87480"/>
            <a:ext cx="9043920" cy="6701760"/>
            <a:chOff x="55440" y="87480"/>
            <a:chExt cx="9043920" cy="6701760"/>
          </a:xfrm>
        </p:grpSpPr>
        <p:sp>
          <p:nvSpPr>
            <p:cNvPr id="6" name=""/>
            <p:cNvSpPr/>
            <p:nvPr/>
          </p:nvSpPr>
          <p:spPr>
            <a:xfrm>
              <a:off x="139320" y="87480"/>
              <a:ext cx="8873280" cy="6701760"/>
            </a:xfrm>
            <a:prstGeom prst="rect">
              <a:avLst/>
            </a:pr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5440" y="176040"/>
              <a:ext cx="9043920" cy="6528240"/>
            </a:xfrm>
            <a:prstGeom prst="rect">
              <a:avLst/>
            </a:pr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98640" y="131760"/>
              <a:ext cx="8957160" cy="661680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"/>
          <p:cNvSpPr/>
          <p:nvPr/>
        </p:nvSpPr>
        <p:spPr>
          <a:xfrm>
            <a:off x="3940200" y="6281640"/>
            <a:ext cx="12193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" descr=""/>
          <p:cNvPicPr/>
          <p:nvPr/>
        </p:nvPicPr>
        <p:blipFill>
          <a:blip r:embed="rId2"/>
          <a:stretch/>
        </p:blipFill>
        <p:spPr>
          <a:xfrm>
            <a:off x="4038480" y="6346800"/>
            <a:ext cx="990720" cy="4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962520" y="1447920"/>
            <a:ext cx="1904760" cy="1066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447920" y="2743200"/>
            <a:ext cx="6781680" cy="25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Black"/>
              </a:rPr>
              <a:t>Texas Nodal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 Black"/>
              </a:rPr>
              <a:t>Nodalizing the Operating Gu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33520" y="304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1295280"/>
            <a:ext cx="2438280" cy="41148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9999"/>
                </a:solidFill>
                <a:latin typeface="Arial"/>
              </a:rPr>
              <a:t>?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29000" y="1295280"/>
            <a:ext cx="2438280" cy="4114800"/>
          </a:xfrm>
          <a:prstGeom prst="rect">
            <a:avLst/>
          </a:prstGeom>
          <a:noFill/>
          <a:ln w="0">
            <a:noFill/>
          </a:ln>
          <a:effectLst>
            <a:outerShdw dist="81185" dir="1312197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293480" y="331920"/>
            <a:ext cx="679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dalizing the Operating Gu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137160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7000" indent="-26370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:  Provide ready access to quality information as needed for system oper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297180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720" indent="-268272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ations:  Keep information in a simple and compact loc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3884760"/>
            <a:ext cx="58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e the risk of conflicting instructions from differing sour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479916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reliability governs cont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71800" y="5302080"/>
            <a:ext cx="58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rve content gained from experie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ptions Consider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4419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288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3 – Incorporate Operating Guide language into the Protoc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4479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460600" indent="-2460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1 – Apply the format of the current Operating Gu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2895480"/>
            <a:ext cx="8305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460600" indent="-2460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2 – Remove Protocol replication from the Operating Gu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tion 1 -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ly the format of the current Operating Gu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1295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67652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63600" indent="-1263600">
              <a:lnSpc>
                <a:spcPct val="100000"/>
              </a:lnSpc>
              <a:tabLst>
                <a:tab algn="l" pos="0"/>
                <a:tab algn="l" pos="282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miliarity – This is the way it has always been done.  The change and review processes are establish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86000"/>
            <a:ext cx="1524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291132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63600" indent="-1263600">
              <a:lnSpc>
                <a:spcPct val="100000"/>
              </a:lnSpc>
              <a:tabLst>
                <a:tab algn="l" pos="0"/>
                <a:tab algn="l" pos="282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 – Duplicating information from the Nodacols, results in inconsistency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ulting bulk of the NGuides is negating any advantage of simplicity that once w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40384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63600" indent="-1263600">
              <a:lnSpc>
                <a:spcPct val="100000"/>
              </a:lnSpc>
              <a:tabLst>
                <a:tab algn="l" pos="0"/>
                <a:tab algn="l" pos="282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– Information location mandates use of NGuides and Nodacols, increasing complexity for Opera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51814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63600" indent="-1263600">
              <a:lnSpc>
                <a:spcPct val="100000"/>
              </a:lnSpc>
              <a:tabLst>
                <a:tab algn="l" pos="0"/>
                <a:tab algn="l" pos="282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enance – Managing consistency with Nodacols using a different process, which introduces different thought processes is unrelia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tion 2 –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move Protocol replication from the Operating Gu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219320"/>
            <a:ext cx="1295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167652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63600" indent="-1263600">
              <a:lnSpc>
                <a:spcPct val="100000"/>
              </a:lnSpc>
              <a:tabLst>
                <a:tab algn="l" pos="0"/>
                <a:tab algn="l" pos="282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enance – Duplication would be removed, reducing risk of inconsistency with Nodac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243828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63600" indent="-1263600">
              <a:lnSpc>
                <a:spcPct val="100000"/>
              </a:lnSpc>
              <a:tabLst>
                <a:tab algn="l" pos="0"/>
                <a:tab algn="l" pos="282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miliarity – The change and review processes are establish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32004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63600" indent="-1263600">
              <a:lnSpc>
                <a:spcPct val="100000"/>
              </a:lnSpc>
              <a:tabLst>
                <a:tab algn="l" pos="0"/>
                <a:tab algn="l" pos="282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– Eliminate circular re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3581280"/>
            <a:ext cx="1523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41911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63600" indent="-1263600">
              <a:lnSpc>
                <a:spcPct val="100000"/>
              </a:lnSpc>
              <a:tabLst>
                <a:tab algn="l" pos="0"/>
                <a:tab algn="l" pos="282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- Requires Operators to utilize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tion 3 – Incorporate Operating Guide language into the Protoc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1295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67652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63600" indent="-1263600">
              <a:lnSpc>
                <a:spcPct val="100000"/>
              </a:lnSpc>
              <a:tabLst>
                <a:tab algn="l" pos="0"/>
                <a:tab algn="l" pos="282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ability – All of the information on requirements and implementation would be in one lo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4648320"/>
            <a:ext cx="1523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52578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63600" indent="-1263600">
              <a:lnSpc>
                <a:spcPct val="100000"/>
              </a:lnSpc>
              <a:tabLst>
                <a:tab algn="l" pos="0"/>
                <a:tab algn="l" pos="282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– There is a risk that expanded exposure to changes may delay their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24382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63600" indent="-1263600">
              <a:lnSpc>
                <a:spcPct val="100000"/>
              </a:lnSpc>
              <a:tabLst>
                <a:tab algn="l" pos="0"/>
                <a:tab algn="l" pos="282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ency – All of the information in one lo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28954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63600" indent="-1263600">
              <a:lnSpc>
                <a:spcPct val="100000"/>
              </a:lnSpc>
              <a:tabLst>
                <a:tab algn="l" pos="0"/>
                <a:tab algn="l" pos="282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enance – One document to manage.  The change and review processes are established and require ROS, and others if delegated, involv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40384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63600" indent="-1263600">
              <a:lnSpc>
                <a:spcPct val="100000"/>
              </a:lnSpc>
              <a:tabLst>
                <a:tab algn="l" pos="0"/>
                <a:tab algn="l" pos="282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ience – Information expected to be in 3 Nodacol sections making it easy for Operators to ac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RCOTs Recommendation: Option 3 – Incorporate Nodal Operating Guide language into the Nodal Protoc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197820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63600" indent="-1263600">
              <a:lnSpc>
                <a:spcPct val="100000"/>
              </a:lnSpc>
              <a:tabLst>
                <a:tab algn="l" pos="0"/>
                <a:tab algn="l" pos="282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ability – All of the information on requirements and implementation would be in one lo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2862360"/>
            <a:ext cx="8610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63600" indent="-1263600">
              <a:lnSpc>
                <a:spcPct val="100000"/>
              </a:lnSpc>
              <a:tabLst>
                <a:tab algn="l" pos="0"/>
                <a:tab algn="l" pos="282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ency – All of the information in one lo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3305160"/>
            <a:ext cx="8763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63600" indent="-1263600">
              <a:lnSpc>
                <a:spcPct val="100000"/>
              </a:lnSpc>
              <a:tabLst>
                <a:tab algn="l" pos="0"/>
                <a:tab algn="l" pos="282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enance – One document to manage.  The change and review processes are established and require ROS, and others if delegated, to be involv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5027760"/>
            <a:ext cx="8763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63600" indent="-1263600">
              <a:lnSpc>
                <a:spcPct val="100000"/>
              </a:lnSpc>
              <a:tabLst>
                <a:tab algn="l" pos="0"/>
                <a:tab algn="l" pos="282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ience – Information expected to be in 3 Nodacol sections making it easy for Operators to access.  No longer split between 2 boo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commendation from Chairmen of ROS, OWG &amp; OGRTF: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on 1A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197820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63600" indent="-1263600">
              <a:tabLst>
                <a:tab algn="l" pos="0"/>
                <a:tab algn="l" pos="282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63600" indent="-1263600">
              <a:tabLst>
                <a:tab algn="l" pos="0"/>
                <a:tab algn="l" pos="282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2862360"/>
            <a:ext cx="8610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63600" indent="-1263600">
              <a:tabLst>
                <a:tab algn="l" pos="0"/>
                <a:tab algn="l" pos="282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63600" indent="-1263600">
              <a:tabLst>
                <a:tab algn="l" pos="0"/>
                <a:tab algn="l" pos="282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330516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63600" indent="-1263600">
              <a:tabLst>
                <a:tab algn="l" pos="0"/>
                <a:tab algn="l" pos="282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se the Operating Guides using only protocol reference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502776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63600" indent="-1263600">
              <a:tabLst>
                <a:tab algn="l" pos="0"/>
                <a:tab algn="l" pos="282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line for comple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tion 1 &amp; 2  to OGRTF by September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sections completed by March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20:14:27Z</dcterms:created>
  <dc:creator>OTStrain01</dc:creator>
  <dc:description/>
  <dc:language>en-US</dc:language>
  <cp:lastModifiedBy>CFrosch</cp:lastModifiedBy>
  <dcterms:modified xsi:type="dcterms:W3CDTF">2006-08-07T22:53:28Z</dcterms:modified>
  <cp:revision>30</cp:revision>
  <dc:subject/>
  <dc:title>Slide 1</dc:title>
</cp:coreProperties>
</file>